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258-AC00-4608-94CA-B8CA4212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700-62A9-4B6E-B35A-D51D0B7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BA5-AC3D-4424-9303-1519DAA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E8E-DDD8-4412-B07F-8FE44F1D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92F-F723-4C59-98C4-D4EC05D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1CA-EDEF-4541-8C2F-35A8CA14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C19-6B71-423E-97F4-5C76F38C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CC9-1FBE-490B-83BF-60FFD23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49D-4984-42E0-A584-1B005A8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B67-2CC8-4B6C-A061-7E3B51C6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966-637A-43C1-9F91-FB67141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FCE-C241-4A96-ABCF-6D148DA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0C9-3CF4-49AD-AB17-59982E12D8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10D Interpreting non-linear graph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 non-linear graph is a graph which is not a straight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member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y-intercept is the value when x = 0. This is usually the initial or original val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the curve gives the rate of change of y compared to x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a distance-time graph is the spe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0D, Q.1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0D, Q.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0D, Q.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0D, Q. 4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2:11:58Z</dcterms:created>
  <dc:creator>08843474</dc:creator>
  <dc:description/>
  <dc:language>en-US</dc:language>
  <cp:lastModifiedBy>08843474</cp:lastModifiedBy>
  <dcterms:modified xsi:type="dcterms:W3CDTF">2011-06-02T02:21:26Z</dcterms:modified>
  <cp:revision>1</cp:revision>
  <dc:subject/>
  <dc:title>10D Interpreting non-linear graphs</dc:title>
</cp:coreProperties>
</file>